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5FB-049D-4EFB-9364-0BBA4FBE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3251-2D53-48B4-A6D9-C452F6BD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5F3-4333-4057-A410-F0632487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58A-051D-4A74-B038-724E714E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ECD-EADA-4001-A8CF-B306E499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36B-4811-48CF-83C6-E878C842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55B-6F44-4F55-9857-FEDD9C9F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2EB8-AA75-4726-9B7F-726E2071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24F-9CB9-4FC6-9E32-1B8E0F50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CE7E-A11B-4F10-ABB3-2AA50629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73F-C64F-46B3-8CBE-A2403352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B410-0A3B-4285-8930-E7580FAB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34B6-61C6-4E2C-AE14-9F25F2CD8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pravodaj.genderstudies.cz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nderstudies.cz/" TargetMode="External"/><Relationship Id="rId2" Type="http://schemas.openxmlformats.org/officeDocument/2006/relationships/hyperlink" Target="http://www.genderstudies.cz/" TargetMode="External"/><Relationship Id="rId3" Type="http://schemas.openxmlformats.org/officeDocument/2006/relationships/hyperlink" Target="http://zpravodaj.genderstudies.cz/" TargetMode="External"/><Relationship Id="rId4" Type="http://schemas.openxmlformats.org/officeDocument/2006/relationships/hyperlink" Target="http://www.rovneprilezitosti.cz/" TargetMode="External"/><Relationship Id="rId5" Type="http://schemas.openxmlformats.org/officeDocument/2006/relationships/hyperlink" Target="http://www.rovneprilezitosti.ecn.cz/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vné příležitosti žen a mužů v ESF projektech Gender Studies, o.p.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r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 Bosničov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7.07.2011 MPSV Č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486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„sociální pohlaví“ - něco, co není „od přírody“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(vs. biologické pohlaví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vyjadřuje, že vlastnosti a chování spojované s muži a ženami jsou formovány kulturou a společností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konstruktivismus vs. esencialismu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derová rovnost/ RP žen a muž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znamená stejnost mužů a ž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amená, že ženy a muži by měli mít v životě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vné příležit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zi muži a ženami existuje řada rozdílů, ale tyto rozdíly nesmí být důvodem a základem jakékol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krimin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 společno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ová rovnost zakotvena 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slativě ČR a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působ myš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louhodobá záležitos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derové stereoty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edstavy o tom, jaké a jací mají ženy a muži být, a jak se mají chov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de se s genderovými stereotypy (a diskriminací na základě pohlaví) často setkávám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Trh práce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ábor a propouštění, vzdělávání a kariérní postup, vertikální a horizontální segregace pracovního trhu, slaďování osobního a pracovního života, genderový mzdový rozdíl, at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Jazyk – generické maskuli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Rodinný život (dělba práce, rodičovstv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Vzdělávácí systém (učebn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ak Gender Studies pracuje s genderem v rámci ESF projektů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lexní klíčové aktivity zaměřené 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šechny cílové skup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visející s pracovním trhem (zaměstnavatelé, zaměstnaní – s  důrazem na tzv. ohrožené cílové skupiny – ((budoucí) rodiče malých dětí, matky (a otcové) po rodičovské dovolené, lidé 50+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der Mainstreami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zaměstnavatel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ZITIVNÍ MOTIVAC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eně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ma roku: Rovné příležitosti a Úřad roku Půl na pů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iz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derových audi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VĚ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adenstv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v oblasti podpory rovných příležitostí a slaďování osobního a pracovního života formou osobních, telefonických a e-mailových konzultac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a úřady šitá na míru v různých oblastech souvisejících s genderem (gender a marketing, firemní školky, atd.) – pro management i celoploš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emin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ktronickéh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ěsíčník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vné příležitosti do firem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zpravodaj.genderstudies.c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 a jeho speciálních tištěných vyd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vorba a vydávání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ávních expertíz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aktických manuál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vízů a 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manažery a manažer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řádání (mezinárodních) konferencí, kulatých stolů pro fi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jiné PR materiá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ohrožené cílové skupi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ávní poradna „Půl na půl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elefonická, online, osob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ihovna a informační centr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droj informac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šitá na míru, např. pro  mateřská centra, kde se cílová skupina „zdržuj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orba a vydávání praktických manuálů a poradc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př. „Nenechte se diskriminovat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ydávání novin „Půl na půl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příležitosti oslav Mezinárodního dne rov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řádání konferencí, workshop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jiné PR materiál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i za pozornos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.bosnicova@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24 915 6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zpravodaj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rovneprilezitosti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rovneprilezitosti.ecn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7:43:36Z</dcterms:created>
  <dc:creator>Medvedici</dc:creator>
  <dc:description/>
  <dc:language>en-US</dc:language>
  <cp:lastModifiedBy>nina</cp:lastModifiedBy>
  <dcterms:modified xsi:type="dcterms:W3CDTF">2011-07-26T07:39:42Z</dcterms:modified>
  <cp:revision>140</cp:revision>
  <dc:subject/>
  <dc:title>Prolomte genderové stereotypy. Dejte talentu šanci.</dc:title>
</cp:coreProperties>
</file>